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0.wmf" ContentType="image/x-wmf"/>
  <Override PartName="/ppt/media/image28.png" ContentType="image/png"/>
  <Override PartName="/ppt/media/image49.wmf" ContentType="image/x-wmf"/>
  <Override PartName="/ppt/media/image11.png" ContentType="image/png"/>
  <Override PartName="/ppt/media/image10.wmf" ContentType="image/x-wmf"/>
  <Override PartName="/ppt/media/image47.wmf" ContentType="image/x-wmf"/>
  <Override PartName="/ppt/media/image25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51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62.wmf" ContentType="image/x-wmf"/>
  <Override PartName="/ppt/media/image22.png" ContentType="image/png"/>
  <Override PartName="/ppt/media/image4.wmf" ContentType="image/x-wmf"/>
  <Override PartName="/ppt/media/image59.png" ContentType="image/png"/>
  <Override PartName="/ppt/media/image16.png" ContentType="image/png"/>
  <Override PartName="/ppt/media/image56.wmf" ContentType="image/x-wmf"/>
  <Override PartName="/ppt/media/image27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.wmf" ContentType="image/x-wmf"/>
  <Override PartName="/ppt/media/image58.png" ContentType="image/png"/>
  <Override PartName="/ppt/media/image21.png" ContentType="image/png"/>
  <Override PartName="/ppt/media/image23.png" ContentType="image/png"/>
  <Override PartName="/ppt/media/image36.png" ContentType="image/png"/>
  <Override PartName="/ppt/media/image20.png" ContentType="image/png"/>
  <Override PartName="/ppt/media/image24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8.png" ContentType="image/png"/>
  <Override PartName="/ppt/media/image12.png" ContentType="image/png"/>
  <Override PartName="/ppt/media/image52.wmf" ContentType="image/x-wmf"/>
  <Override PartName="/ppt/media/image8.png" ContentType="image/png"/>
  <Override PartName="/ppt/media/image60.wmf" ContentType="image/x-wmf"/>
  <Override PartName="/ppt/media/image38.png" ContentType="image/png"/>
  <Override PartName="/ppt/media/image7.png" ContentType="image/png"/>
  <Override PartName="/ppt/media/image41.wmf" ContentType="image/x-wmf"/>
  <Override PartName="/ppt/media/image19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4.wmf" ContentType="image/x-wmf"/>
  <Override PartName="/ppt/media/image9.wmf" ContentType="image/x-wmf"/>
  <Override PartName="/ppt/media/image30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61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CF1A-02F6-46D8-B05E-F3302C0D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8DF546-7286-4375-88D0-ECBB552E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83C9D0-7D9F-446D-9441-F0C98708C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7FC591-D6C8-41CE-911F-6669A0F69E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768A-37F2-4F6C-8DAA-FCE3846AA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2674BD-F0AA-4AE3-BDE5-A29830DCA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505340A-6EC8-478A-99E9-E43AFD685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7F6989-5B37-445E-985D-F033E6FB2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B9ADF5-7796-4545-92CD-B09E2A83A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04A189-71D0-4A42-9897-3B5D1F161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AB733D-25C4-4B10-82AC-E587009A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EF06C1-B8C3-4EA3-BD31-B3DEE2185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D1A5A-33B5-40B7-8997-FDE4B5E12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843400-DAE4-4BE1-8A92-CEEF1B9ED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1680E0-D419-4E21-8A52-6FBD8B19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5FB8F7-10B5-48DA-99C5-D19C6FE18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D5EA4D-AD0B-411C-A018-3E15B12E0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BF14E2-6BB8-4F40-9B04-E7E792783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5A73BC-34D0-4E5D-8AC3-0AA288DAE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8D5AA2-625F-412E-AED2-08EC24DCD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D02595B-4AE2-4672-A450-8A225C2CE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6D1205-479A-44BE-9396-D1288C9BE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3E5B19-5A5B-48A2-A966-452A40D0E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ACA7-FBF9-43F2-BB45-7B1D1553B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5CCA28-82E1-4442-BD8B-B9403AF8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EC24F3E-2168-48F6-8DEC-3BB11896B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B51097-1602-4A87-95A5-145091B58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B81BD6-7158-4E75-A8AF-5B05EF972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B37D46-EB6B-406E-B1AC-53659821B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30F705-EE45-4134-8E66-962D0F884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525A18-FFD6-4B33-AE7A-2F952E205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33B6E7-98D5-4CAA-9481-C9B61A66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B5D612-C270-4652-BD01-F83FDC521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BC9B-81A8-4616-B957-12DA4E7CC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F249EE-5E00-4C59-846D-64A1F0599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5B81F-ABB7-42B7-9996-7A52A785F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8A40-30AD-4FA5-AF57-76C5C6B7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C5062C-A309-4143-A066-612ED2063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20A27A-0F00-4199-A2D1-9A93DAE9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A8B-4693-4A67-8046-EBBE3E66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9A33-8DC7-4667-A3DC-6B5C47C9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9F3D-962C-4B6C-BA41-BA93B390B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59B-B1C4-4BC9-B5EF-9EC0FC54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4D66F-E126-466A-8057-A24D228A8E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8D04D-E061-4BCF-B462-2A1CFC01B4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29A3C-E4BE-4A05-88C1-CAF8A4997B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3076B-EFDB-4770-9F2E-47523DBF96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68B4A-D54B-4E85-82AD-71795FA5AA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90BF2-C1E1-4622-8E1D-EA8177D2F3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CECC4-7160-4138-9F10-2F3B1F66CD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B2B2-6C54-4954-B454-0BF5D846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61F79-FCBD-44FE-AD85-149B05CF5A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B4467-B531-44AA-9802-FD10118DB03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F7332-BADE-4196-94AB-A93007075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502E-AA60-418E-8B67-49AF0160DF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B9FDA-5D3C-4EC4-9CBB-46510F4973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C9ED-D5F9-4B00-927E-723069FF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92B5-9B6A-46E9-AABB-A06445CF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3856-2AEA-42EE-9737-D38C655E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227-7285-4072-9A54-AB290284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CCA-E670-45FF-8BC9-57563E7E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44E-5789-41AD-BD0A-8A18711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56EC-F146-402F-8FEE-EB667364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9F31-7C61-4107-9460-E0D90B43A2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104-1C06-45E8-A240-A01F30EA70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7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89CB-1CD2-4DA7-9E4B-C4ED1BE3ED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our parame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length,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twist ,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nk offset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 joint ang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atrix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a function of only a single variabl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it turns out that three of the above four quantities are constant for a given link, while the fourth parameter is the joint vari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B051-2495-4C9C-84DB-7B59BF2F4B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joint, a joint variable i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ociated w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joints are represented by the z-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revolute, the z-axis is in the direction of rotation as followed by the right hand r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the joint is prismatic, the z-axis for the joint is along the direction of the liner mov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51C2-0597-4CCA-BE2A-DFD6E8C0AE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498492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bine all transformations, from the first joint (base) to the next until we get to the last joint, to get the robot’s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otal transformation matrix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From     , the position and orientation of the tool frame are calcul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C551-E305-447F-9849-4C092D8751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8"/>
          <p:cNvGraphicFramePr/>
          <p:nvPr/>
        </p:nvGraphicFramePr>
        <p:xfrm>
          <a:off x="1676520" y="3657600"/>
          <a:ext cx="307656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657600"/>
                    <a:ext cx="30765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6"/>
          <p:cNvGraphicFramePr/>
          <p:nvPr/>
        </p:nvGraphicFramePr>
        <p:xfrm>
          <a:off x="1676520" y="4518000"/>
          <a:ext cx="38088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518000"/>
                    <a:ext cx="3808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FCAC-30E0-4FB5-9793-B1F9AD7E82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C:\Documents and Settings\Administrator\Desktop\untitled.bmp"/>
          <p:cNvPicPr/>
          <p:nvPr/>
        </p:nvPicPr>
        <p:blipFill>
          <a:blip r:embed="rId1"/>
          <a:stretch/>
        </p:blipFill>
        <p:spPr>
          <a:xfrm>
            <a:off x="457200" y="1514520"/>
            <a:ext cx="8448840" cy="5343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2C3E-CFB3-4719-BBE9-B67A67FB5E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871056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A711-52E0-48BA-9B30-92913322238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Administrator\Desktop\untitled.bmp"/>
          <p:cNvPicPr/>
          <p:nvPr/>
        </p:nvPicPr>
        <p:blipFill>
          <a:blip r:embed="rId2"/>
          <a:stretch/>
        </p:blipFill>
        <p:spPr>
          <a:xfrm>
            <a:off x="304920" y="1523880"/>
            <a:ext cx="862956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166D-290F-4F48-BEC2-9CDBC9FA61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086680" cy="60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Object 9"/>
          <p:cNvGraphicFramePr/>
          <p:nvPr/>
        </p:nvGraphicFramePr>
        <p:xfrm>
          <a:off x="2133720" y="2895480"/>
          <a:ext cx="4144680" cy="167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33720" y="289548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10" descr=""/>
          <p:cNvPicPr/>
          <p:nvPr/>
        </p:nvPicPr>
        <p:blipFill>
          <a:blip r:embed="rId4"/>
          <a:stretch/>
        </p:blipFill>
        <p:spPr>
          <a:xfrm>
            <a:off x="380880" y="4952880"/>
            <a:ext cx="8134560" cy="685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"/>
          <p:cNvPicPr/>
          <p:nvPr/>
        </p:nvPicPr>
        <p:blipFill>
          <a:blip r:embed="rId5"/>
          <a:stretch/>
        </p:blipFill>
        <p:spPr>
          <a:xfrm>
            <a:off x="457200" y="1295280"/>
            <a:ext cx="8305920" cy="7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103C-4146-4D50-86F2-A04C7A0B01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9"/>
          <p:cNvSpPr/>
          <p:nvPr/>
        </p:nvSpPr>
        <p:spPr>
          <a:xfrm>
            <a:off x="838080" y="1925640"/>
            <a:ext cx="4419720" cy="10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frame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Z ‘s are normal to th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9" descr=""/>
          <p:cNvPicPr/>
          <p:nvPr/>
        </p:nvPicPr>
        <p:blipFill>
          <a:blip r:embed="rId1"/>
          <a:stretch/>
        </p:blipFill>
        <p:spPr>
          <a:xfrm>
            <a:off x="4645080" y="1447920"/>
            <a:ext cx="4498920" cy="3733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0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06720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wo links a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5529F-0AC8-4BD9-87E7-E530954846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219560" cy="2657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5829120" cy="1809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6400800" y="2666880"/>
            <a:ext cx="1314360" cy="352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7620120" y="2666880"/>
            <a:ext cx="666720" cy="304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105520" y="2286000"/>
            <a:ext cx="39621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re (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 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denoted by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12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D4B-17D8-43E8-9411-7B96386EB8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381720" cy="4424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0" y="4038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and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and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B879-DCF4-4248-B16E-4674A98FE4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04E1-70A4-45CC-AF0C-883BC9BF4F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3143160" cy="396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3200400" y="3276720"/>
            <a:ext cx="5715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CD53-2DE4-46B7-AEC2-9CC3A2EF22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3809880" y="1752480"/>
            <a:ext cx="148608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A38-F6AD-4790-95FF-DCB3964F935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3971880" cy="4905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343872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8ED5-FF76-4125-B419-F7DDEB4314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2057400" y="1752480"/>
            <a:ext cx="337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The three links cylindric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13A3-6CBE-4781-8342-1943316FE3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100240" y="2728800"/>
            <a:ext cx="49435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CBF5-E0E9-4232-81AB-FB9EC70B2A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1371600" y="2263680"/>
            <a:ext cx="556272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800E-297D-41A4-8225-8FDE5C069A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809880" y="1828800"/>
            <a:ext cx="4105440" cy="3284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36097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3448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ACD6-39A4-41B1-A6E8-DDF6A33C5E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2581200" y="1849320"/>
            <a:ext cx="398160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pherical wr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D6AB-16D9-4C1F-8A93-293BD371E9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848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4AAF-2CC0-40C0-A14A-E57B66CA6B7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homogeneous transformation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elating the tool frame to the fixed base fra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457A-44DF-4E6A-8375-C10FB7E71B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514600" y="2819520"/>
            <a:ext cx="3676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096-3F78-4E77-BE50-3A9BF8490F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3502080" cy="838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5"/>
          <p:cNvGraphicFramePr/>
          <p:nvPr/>
        </p:nvGraphicFramePr>
        <p:xfrm>
          <a:off x="819000" y="3886200"/>
          <a:ext cx="628920" cy="76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9000" y="3886200"/>
                    <a:ext cx="62892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5524560" y="3962520"/>
          <a:ext cx="495360" cy="609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24560" y="3962520"/>
                    <a:ext cx="495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by example 2, and        given by example  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A632-7B66-4175-AE08-F111A6895B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458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55855-E470-4F61-87CD-7371442D36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2063880" y="1676520"/>
            <a:ext cx="443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5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11AF-15CD-4D79-9F30-676E4017F2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ward kinematic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The position of the end-effector: (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The orientation {Roll, Pitch, Yaw 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3" name="Object 8"/>
          <p:cNvGraphicFramePr/>
          <p:nvPr/>
        </p:nvGraphicFramePr>
        <p:xfrm>
          <a:off x="1332000" y="3886200"/>
          <a:ext cx="537372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886200"/>
                    <a:ext cx="5373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l Pitch Y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tation matrix for the following operation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2720880" y="379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801320" y="2048040"/>
            <a:ext cx="4035600" cy="3517200"/>
            <a:chOff x="4801320" y="2048040"/>
            <a:chExt cx="4035600" cy="3517200"/>
          </a:xfrm>
        </p:grpSpPr>
        <p:grpSp>
          <p:nvGrpSpPr>
            <p:cNvPr id="239" name="Group 4"/>
            <p:cNvGrpSpPr/>
            <p:nvPr/>
          </p:nvGrpSpPr>
          <p:grpSpPr>
            <a:xfrm>
              <a:off x="5332320" y="2527200"/>
              <a:ext cx="3200400" cy="2743200"/>
              <a:chOff x="5332320" y="2527200"/>
              <a:chExt cx="3200400" cy="2743200"/>
            </a:xfrm>
          </p:grpSpPr>
          <p:sp>
            <p:nvSpPr>
              <p:cNvPr id="240" name="Line 5"/>
              <p:cNvSpPr/>
              <p:nvPr/>
            </p:nvSpPr>
            <p:spPr>
              <a:xfrm flipV="1">
                <a:off x="6703920" y="2527200"/>
                <a:ext cx="0" cy="18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6"/>
              <p:cNvSpPr/>
              <p:nvPr/>
            </p:nvSpPr>
            <p:spPr>
              <a:xfrm flipH="1">
                <a:off x="5332320" y="4356000"/>
                <a:ext cx="13716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7"/>
              <p:cNvSpPr/>
              <p:nvPr/>
            </p:nvSpPr>
            <p:spPr>
              <a:xfrm>
                <a:off x="6703920" y="4356000"/>
                <a:ext cx="18288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6399000" y="306072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 rot="16336800">
                <a:off x="5724360" y="466164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 rot="5753400">
                <a:off x="7395840" y="4181400"/>
                <a:ext cx="685800" cy="38088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1240" h="872">
                    <a:moveTo>
                      <a:pt x="240" y="48"/>
                    </a:moveTo>
                    <a:cubicBezTo>
                      <a:pt x="164" y="92"/>
                      <a:pt x="88" y="136"/>
                      <a:pt x="48" y="192"/>
                    </a:cubicBezTo>
                    <a:cubicBezTo>
                      <a:pt x="8" y="248"/>
                      <a:pt x="0" y="320"/>
                      <a:pt x="0" y="384"/>
                    </a:cubicBezTo>
                    <a:cubicBezTo>
                      <a:pt x="0" y="448"/>
                      <a:pt x="8" y="512"/>
                      <a:pt x="48" y="576"/>
                    </a:cubicBezTo>
                    <a:cubicBezTo>
                      <a:pt x="88" y="640"/>
                      <a:pt x="160" y="720"/>
                      <a:pt x="240" y="768"/>
                    </a:cubicBezTo>
                    <a:cubicBezTo>
                      <a:pt x="320" y="816"/>
                      <a:pt x="432" y="856"/>
                      <a:pt x="528" y="864"/>
                    </a:cubicBezTo>
                    <a:cubicBezTo>
                      <a:pt x="624" y="872"/>
                      <a:pt x="736" y="840"/>
                      <a:pt x="816" y="816"/>
                    </a:cubicBezTo>
                    <a:cubicBezTo>
                      <a:pt x="896" y="792"/>
                      <a:pt x="952" y="760"/>
                      <a:pt x="1008" y="720"/>
                    </a:cubicBezTo>
                    <a:cubicBezTo>
                      <a:pt x="1064" y="680"/>
                      <a:pt x="1120" y="624"/>
                      <a:pt x="1152" y="576"/>
                    </a:cubicBezTo>
                    <a:cubicBezTo>
                      <a:pt x="1184" y="528"/>
                      <a:pt x="1192" y="496"/>
                      <a:pt x="1200" y="432"/>
                    </a:cubicBezTo>
                    <a:cubicBezTo>
                      <a:pt x="1208" y="368"/>
                      <a:pt x="1240" y="256"/>
                      <a:pt x="1200" y="192"/>
                    </a:cubicBezTo>
                    <a:cubicBezTo>
                      <a:pt x="1160" y="128"/>
                      <a:pt x="1040" y="80"/>
                      <a:pt x="960" y="48"/>
                    </a:cubicBezTo>
                    <a:cubicBezTo>
                      <a:pt x="880" y="16"/>
                      <a:pt x="800" y="8"/>
                      <a:pt x="720" y="0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Text Box 11"/>
            <p:cNvSpPr/>
            <p:nvPr/>
          </p:nvSpPr>
          <p:spPr>
            <a:xfrm>
              <a:off x="4801320" y="5105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>
              <a:off x="8436600" y="411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3"/>
            <p:cNvSpPr/>
            <p:nvPr/>
          </p:nvSpPr>
          <p:spPr>
            <a:xfrm>
              <a:off x="6442200" y="20480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49" name="Object 1024"/>
            <p:cNvGraphicFramePr/>
            <p:nvPr/>
          </p:nvGraphicFramePr>
          <p:xfrm>
            <a:off x="5402160" y="4324680"/>
            <a:ext cx="380880" cy="417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0" name="Object 10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2160" y="4324680"/>
                      <a:ext cx="380880" cy="41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51" name="Object 1025"/>
                <p:cNvSpPr txBox="1"/>
                <p:nvPr/>
              </p:nvSpPr>
              <p:spPr>
                <a:xfrm>
                  <a:off x="7916760" y="4542120"/>
                  <a:ext cx="331560" cy="46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2" name="Object 1026"/>
                <p:cNvSpPr txBox="1"/>
                <p:nvPr/>
              </p:nvSpPr>
              <p:spPr>
                <a:xfrm>
                  <a:off x="6870600" y="2557440"/>
                  <a:ext cx="414000" cy="655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53" name="Object 15"/>
          <p:cNvGraphicFramePr/>
          <p:nvPr/>
        </p:nvGraphicFramePr>
        <p:xfrm>
          <a:off x="457200" y="2514600"/>
          <a:ext cx="5257800" cy="14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514600"/>
                    <a:ext cx="52578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Slide Number Placeholder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AD7F3D-88EF-4C1F-BF90-5585DC78867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6"/>
          <p:cNvGraphicFramePr/>
          <p:nvPr/>
        </p:nvGraphicFramePr>
        <p:xfrm>
          <a:off x="228600" y="4105440"/>
          <a:ext cx="4495680" cy="233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105440"/>
                    <a:ext cx="44956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4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ree links cylindrical with Spherical wr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7EFA-DC12-48DD-859F-E087AC38CDA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alcula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the matrix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 wi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f the matr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1" name="Object 2"/>
          <p:cNvGraphicFramePr/>
          <p:nvPr/>
        </p:nvGraphicFramePr>
        <p:xfrm>
          <a:off x="4238640" y="1600200"/>
          <a:ext cx="1933560" cy="5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8640" y="1600200"/>
                    <a:ext cx="1933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3"/>
          <p:cNvGraphicFramePr/>
          <p:nvPr/>
        </p:nvGraphicFramePr>
        <p:xfrm>
          <a:off x="3048120" y="3429000"/>
          <a:ext cx="4762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3429000"/>
                    <a:ext cx="4762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6"/>
          <p:cNvGraphicFramePr/>
          <p:nvPr/>
        </p:nvGraphicFramePr>
        <p:xfrm>
          <a:off x="533520" y="4343400"/>
          <a:ext cx="586728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343400"/>
                    <a:ext cx="586728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5"/>
          <p:cNvGraphicFramePr/>
          <p:nvPr/>
        </p:nvGraphicFramePr>
        <p:xfrm>
          <a:off x="851040" y="5664240"/>
          <a:ext cx="13586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51040" y="5664240"/>
                    <a:ext cx="1358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6"/>
          <p:cNvGraphicFramePr/>
          <p:nvPr/>
        </p:nvGraphicFramePr>
        <p:xfrm>
          <a:off x="2514600" y="5638680"/>
          <a:ext cx="1407960" cy="444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5638680"/>
                    <a:ext cx="14079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7"/>
          <p:cNvGraphicFramePr/>
          <p:nvPr/>
        </p:nvGraphicFramePr>
        <p:xfrm>
          <a:off x="4184640" y="5638680"/>
          <a:ext cx="1454040" cy="476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184640" y="5638680"/>
                    <a:ext cx="14540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2"/>
          <p:cNvGraphicFramePr/>
          <p:nvPr/>
        </p:nvGraphicFramePr>
        <p:xfrm>
          <a:off x="1130400" y="6242040"/>
          <a:ext cx="1195200" cy="311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130400" y="6242040"/>
                    <a:ext cx="1195200" cy="31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13"/>
          <p:cNvGraphicFramePr/>
          <p:nvPr/>
        </p:nvGraphicFramePr>
        <p:xfrm>
          <a:off x="2590920" y="6095880"/>
          <a:ext cx="1295280" cy="542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6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6095880"/>
                    <a:ext cx="1295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4"/>
          <p:cNvGraphicFramePr/>
          <p:nvPr/>
        </p:nvGraphicFramePr>
        <p:xfrm>
          <a:off x="4114800" y="6019920"/>
          <a:ext cx="1549440" cy="676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8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14800" y="6019920"/>
                    <a:ext cx="154944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5"/>
          <p:cNvGraphicFramePr/>
          <p:nvPr/>
        </p:nvGraphicFramePr>
        <p:xfrm>
          <a:off x="5962680" y="2577960"/>
          <a:ext cx="1428840" cy="1155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0" name="Object 1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962680" y="2577960"/>
                    <a:ext cx="1428840" cy="11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:RR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D573-3C81-46DD-A3C8-E092C6FEDE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457200" y="220968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447920" y="2286000"/>
          <a:ext cx="4952880" cy="2819520"/>
        </p:xfrm>
        <a:graphic>
          <a:graphicData uri="http://schemas.openxmlformats.org/drawingml/2006/table">
            <a:tbl>
              <a:tblPr/>
              <a:tblGrid>
                <a:gridCol w="1031760"/>
                <a:gridCol w="939960"/>
                <a:gridCol w="1131840"/>
                <a:gridCol w="812520"/>
                <a:gridCol w="1036800"/>
              </a:tblGrid>
              <a:tr h="37944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440" rIns="644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440" marR="64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Spong book: page 1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2, 3.3, 3.4, 3.6 , 3.7, 3.8, 3.9, 3.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lass on next Tues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24F-F576-447C-8DF3-7BFFD0B2AE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u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013-3335-4374-852B-50F7151E25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009880" cy="13809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7" descr=""/>
          <p:cNvPicPr/>
          <p:nvPr/>
        </p:nvPicPr>
        <p:blipFill>
          <a:blip r:embed="rId2"/>
          <a:stretch/>
        </p:blipFill>
        <p:spPr>
          <a:xfrm>
            <a:off x="457200" y="1062000"/>
            <a:ext cx="7467480" cy="2595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16"/>
          <p:cNvGraphicFramePr/>
          <p:nvPr/>
        </p:nvGraphicFramePr>
        <p:xfrm>
          <a:off x="1855800" y="4038480"/>
          <a:ext cx="2943360" cy="47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5800" y="4038480"/>
                    <a:ext cx="29433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Rectangle 3"/>
          <p:cNvSpPr/>
          <p:nvPr/>
        </p:nvSpPr>
        <p:spPr>
          <a:xfrm>
            <a:off x="457200" y="4038480"/>
            <a:ext cx="8305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re                                     are  Roll, Pitch, and Y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present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orward 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kinema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927000" y="2347920"/>
          <a:ext cx="198756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2347920"/>
                    <a:ext cx="198756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5"/>
          <p:cNvGraphicFramePr/>
          <p:nvPr/>
        </p:nvGraphicFramePr>
        <p:xfrm>
          <a:off x="4927680" y="2903400"/>
          <a:ext cx="30970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7680" y="2903400"/>
                    <a:ext cx="30970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Slide Number Placeholder 5"/>
          <p:cNvSpPr/>
          <p:nvPr/>
        </p:nvSpPr>
        <p:spPr>
          <a:xfrm>
            <a:off x="69343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EB0-913C-42F2-866B-1FD3F52791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800960" y="160020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y DH no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very simple way of modeling robot links and joints that can be used for any kind of robot configu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has became the standard way of representing robots and modeling their mo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E7E3-726E-4AEB-80E2-542F7160C4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s: we hav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+1 links. Link 0 is the 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oints are numbered from 1 to 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i connects link i − 1 to link 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 {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ttached to joi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+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fram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{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Y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which is attached to the robot base (inertial frame) “joint 1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C1CE-DD08-44D6-87C9-43F86AF22B9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gn a reference frame to each join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x-axis and z-axis). The D-H representation does not use the y-axis at 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homogeneous transform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presented as a product of four basic transform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2B5-FA45-4556-87A0-38DD5E94EC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B56F-E88A-4CEB-A754-D153AF4D21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rix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presenting the four movements is found by: four mov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Object 7"/>
          <p:cNvGraphicFramePr/>
          <p:nvPr/>
        </p:nvGraphicFramePr>
        <p:xfrm>
          <a:off x="1066680" y="3962520"/>
          <a:ext cx="548640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962520"/>
                    <a:ext cx="54864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9"/>
          <p:cNvGraphicFramePr/>
          <p:nvPr/>
        </p:nvGraphicFramePr>
        <p:xfrm>
          <a:off x="349200" y="2438280"/>
          <a:ext cx="5032440" cy="136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2438280"/>
                    <a:ext cx="503244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8A7E-85E1-4450-8715-879D1EC112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8"/>
          <p:cNvGraphicFramePr/>
          <p:nvPr/>
        </p:nvGraphicFramePr>
        <p:xfrm>
          <a:off x="1447920" y="4800600"/>
          <a:ext cx="4144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800600"/>
                    <a:ext cx="4144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685800" y="1447920"/>
                <a:ext cx="393048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4648320" y="1447920"/>
                <a:ext cx="406080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ot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Sθ</m:t>
                              </m:r>
                            </m:e>
                            <m:e>
                              <m:r>
                                <m:t xml:space="preserve">C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523880" y="1829880"/>
            <a:ext cx="6096240" cy="4064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762120" y="3048120"/>
                <a:ext cx="704844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θ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α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nk and joint parameter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lengt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: the offset distance between the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nd 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es along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Link offset 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the distance from the origin of frame i−1 to the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ong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-1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ax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E4F5-5779-4410-88DD-AA0EAFB4EE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H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4DF9-037F-4548-9188-737E2EF2989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380880" y="1414440"/>
            <a:ext cx="3581640" cy="29289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2334960" cy="2666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33520" y="4179960"/>
            <a:ext cx="81532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ink tw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:the angle from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 to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 about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i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itive sense for α is determined from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right-hand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oint angle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angle between the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axes about the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</cp:lastModifiedBy>
  <dcterms:modified xsi:type="dcterms:W3CDTF">2009-09-15T01:45:51Z</dcterms:modified>
  <cp:revision>174</cp:revision>
  <dc:subject/>
  <dc:title>Robot Kinematics II </dc:title>
</cp:coreProperties>
</file>